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D40-78F0-43B2-B7B1-FA662FBD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9D7-3616-423C-93B1-15D933F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2EC-DEE0-4ED3-ACB5-50855455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B56-6B37-4DAB-ACAB-378219C6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446-26EE-45E8-AE33-035F54D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BB8-C8B3-488D-8E85-25B60A14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C60-B2D2-4B21-AE08-4763BD3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97A-1B13-4307-88CE-83B9EDA4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33C-E743-4F07-9F19-7D1AB6C4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E11-A691-4413-9BA5-9C038A00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074-6628-47B5-BF23-7B29E7D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1CF-068E-4DE4-8378-BC8C53C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C67-2ED0-4492-A3AE-4D852970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yan Donahue and Emma S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1 0.023 -0.02131 C 0.054 -0.02131 0.086 0.1452 0.086 0.31171 C 0.086 0.22779 0.102 0.1452 0.117 0.1452 C 0.133 0.1452 0.148 0.22912 0.148 0.31171 C 0.148 0.27041 0.156 0.22779 0.164 0.22779 C 0.172 0.22779 0.18 0.26909 0.18 0.31171 C 0.18 0.2904 0.184 0.27041 0.188 0.27041 C 0.192 0.27041 0.196 0.29172 0.196 0.31171 C 0.196 0.30105 0.198 0.2904 0.2 0.2904 C 0.201 0.2904 0.204 0.30106 0.204 0.31171 C 0.204 0.30638 0.205 0.30105 0.206 0.30105 C 0.206 0.30238 0.208 0.30638 0.208 0.31171 C 0.208 0.30905 0.208 0.30638 0.209 0.30638 C 0.209 0.30771 0.21 0.30904 0.21 0.31171 C 0.21 0.31038 0.21 0.30905 0.21 0.30771 C 0.211 0.30771 0.211 0.30904 0.211 0.31037 C 0.212 0.31037 0.212 0.30904 0.212 0.30771 C 0.213 0.30771 0.213 0.30904 0.213 0.31037 E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d of Russian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are rivers that you can travel and ship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y railroads to get from place to place very fast from Mos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13760" y="570852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5 0.01711 L -0.9415 0.02821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1:36:06Z</dcterms:created>
  <dc:creator> </dc:creator>
  <dc:description/>
  <dc:language>en-US</dc:language>
  <cp:lastModifiedBy> </cp:lastModifiedBy>
  <dcterms:modified xsi:type="dcterms:W3CDTF">2010-12-14T11:55:52Z</dcterms:modified>
  <cp:revision>2</cp:revision>
  <dc:subject/>
  <dc:title>Russian Movement</dc:title>
</cp:coreProperties>
</file>